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DAF-D721-4432-9DDE-BB798E2D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8B9-0812-488D-83D8-B4CBF20E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FF3-9CCE-405D-B113-61E2F6FB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227-CA80-44F6-AA15-456745A2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D5B-AA2E-4AF5-B64F-2386DC2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3F1-26E9-42C3-9FCC-D4CB5142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F6D-56D4-4EF6-83A0-3E2C0E3D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185-F2A5-44EC-B859-6D2DA8B9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D38-102A-42D4-88E8-56267D7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DD9-8069-4788-BA4A-45E66E8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816-78BF-45EA-AE0C-83911EE8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BC6-1AB8-4BF6-80E0-8F5DFF6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CC3C-96C7-40BD-96B7-8E0BC9280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0"/>
            <a:ext cx="3657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3-30 &amp; 3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Rome Test on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93600" y="1452600"/>
            <a:ext cx="9050400" cy="25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3-30 &amp;3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temple  that honored all the gods and goddesses of the Roman wor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high, arched structure built to carry water over long dista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huge stadium where contests were held in R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a Roman athlete called who was usually a slave or prisoner who was forced to fight for the entertainment of the publ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137160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nth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catapult"/>
          <p:cNvPicPr/>
          <p:nvPr/>
        </p:nvPicPr>
        <p:blipFill>
          <a:blip r:embed="rId1"/>
          <a:stretch/>
        </p:blipFill>
        <p:spPr>
          <a:xfrm>
            <a:off x="6477120" y="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glad_title"/>
          <p:cNvPicPr/>
          <p:nvPr/>
        </p:nvPicPr>
        <p:blipFill>
          <a:blip r:embed="rId2"/>
          <a:stretch/>
        </p:blipFill>
        <p:spPr>
          <a:xfrm>
            <a:off x="108000" y="44737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5" descr="4pix"/>
          <p:cNvPicPr/>
          <p:nvPr/>
        </p:nvPicPr>
        <p:blipFill>
          <a:blip r:embed="rId3"/>
          <a:stretch/>
        </p:blipFill>
        <p:spPr>
          <a:xfrm>
            <a:off x="2938320" y="3333600"/>
            <a:ext cx="3267360" cy="19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its_overbot"/>
          <p:cNvPicPr/>
          <p:nvPr/>
        </p:nvPicPr>
        <p:blipFill>
          <a:blip r:embed="rId4"/>
          <a:stretch/>
        </p:blipFill>
        <p:spPr>
          <a:xfrm>
            <a:off x="4952880" y="5334120"/>
            <a:ext cx="419112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its_overtopbub"/>
          <p:cNvPicPr/>
          <p:nvPr/>
        </p:nvPicPr>
        <p:blipFill>
          <a:blip r:embed="rId5"/>
          <a:stretch/>
        </p:blipFill>
        <p:spPr>
          <a:xfrm>
            <a:off x="4952880" y="4424400"/>
            <a:ext cx="4191120" cy="90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7086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que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086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lise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70866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la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80880" y="30492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Brain Pop over Pax Romana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homeroom t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Latin Questions worksheet.  K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Roman Law worksheet.  K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Rome TEST Review.  K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grinningplanet.com/2003/roman-digest/roman-chariot-copyright2.gif"/>
          <p:cNvPicPr/>
          <p:nvPr/>
        </p:nvPicPr>
        <p:blipFill>
          <a:blip r:embed="rId1"/>
          <a:stretch/>
        </p:blipFill>
        <p:spPr>
          <a:xfrm>
            <a:off x="2362320" y="3505320"/>
            <a:ext cx="396216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04920" y="228600"/>
            <a:ext cx="88390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What you should know for the t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questions over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. ch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You get to use it on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ient Gree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the terms you must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ity-state that excelled in the arts; had the FIRST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r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military cit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er the Gr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spread Greek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ce Empire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imeline came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henon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e to Athena in 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se are the terms you must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s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leaders voted on by the Roman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us Caesar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assassinated because he made himself dictator of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sar Augustus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Roman Emperor—started the Pax Ro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x Romana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peace in the Roman Empire that lasted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n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nguage that the Romans sp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of the History of Rome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archy, republic,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diator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 or prisoner who was forced to fight for the entertainment of the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duct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, arched structure built to carry water over long di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theon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  that honored all the gods and goddesses of the Roman world; (still in use today in R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eum  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stadium in Rome where contests were h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03:49Z</dcterms:created>
  <dc:creator>poweruser</dc:creator>
  <dc:description/>
  <dc:language>en-US</dc:language>
  <cp:lastModifiedBy>poweruser</cp:lastModifiedBy>
  <dcterms:modified xsi:type="dcterms:W3CDTF">2011-03-30T13:13:09Z</dcterms:modified>
  <cp:revision>30</cp:revision>
  <dc:subject/>
  <dc:title>Slide 1</dc:title>
</cp:coreProperties>
</file>